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DF6-BDB2-482A-97D8-FE07CCB7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48B9-17B4-406C-81BF-5968D6BB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257F-CC38-43A1-BB07-F652C60B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05A-8533-4500-82FD-ED8EEF2C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BCC-9FB5-4A73-BE88-70F9DA18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049-9785-4EF0-B1BB-4A5D1D64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251-E322-4AE9-A554-819396F7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9F1D-174B-4356-9E15-8131DEFD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9C6-7E37-4D6B-A001-E0281CE4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72A2-DC3C-43D2-8740-13133F08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BF84-BFEA-43A3-A7D5-5DCC5EEB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9267-E9DF-4E8B-B0E1-729B3AE2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3CFB-FE8E-4BDF-9245-6846BA4ED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2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3200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189000"/>
            <a:ext cx="125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6764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6828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126828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126828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1268280"/>
            <a:ext cx="125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26828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67640" y="126828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421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2421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2421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421000"/>
            <a:ext cx="125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2421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2421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645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32000" y="3645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3645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00720" y="3645000"/>
            <a:ext cx="125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3645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67640" y="3645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86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486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486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00720" y="4869000"/>
            <a:ext cx="125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486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67640" y="486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00408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600408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600408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6004080"/>
            <a:ext cx="125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84720" y="600408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67640" y="600408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3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771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2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332000" y="189000"/>
            <a:ext cx="1258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843280" y="18900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189000"/>
            <a:ext cx="14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84720" y="189000"/>
            <a:ext cx="1258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67640" y="18900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33200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700360" y="1268280"/>
            <a:ext cx="1440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00720" y="1268280"/>
            <a:ext cx="12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084720" y="1268280"/>
            <a:ext cx="12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67640" y="126828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-181080" y="2492280"/>
            <a:ext cx="158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re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500720" y="2421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084720" y="2421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i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667640" y="242100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eci-o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645000"/>
            <a:ext cx="125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nu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33200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43280" y="3645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00720" y="3645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84720" y="3645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t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667640" y="3645000"/>
            <a:ext cx="147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ua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i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33200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84328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i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00720" y="4869000"/>
            <a:ext cx="12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o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08472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667640" y="501336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-181080" y="5972040"/>
            <a:ext cx="158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inta  y u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332000" y="600408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 y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843280" y="6004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t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284720" y="600408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uat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012000" y="6004080"/>
            <a:ext cx="13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inc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67640" y="5943600"/>
            <a:ext cx="14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se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332000" y="2565360"/>
            <a:ext cx="143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tor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-1405080" y="19162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020000" y="-1395360"/>
            <a:ext cx="21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-2124000" y="652464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540720" y="2852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635280" y="73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-1332000" y="-1324080"/>
            <a:ext cx="13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86 0.03585 C 0.31771 -0.08881 0.53107 -0.21346 0.67222 -0.15911 C 0.81354 -0.10476 1.06719 0.25301 0.9526 0.3624 C 0.83819 0.47179 0.15104 0.47364 -0.01493 0.49746 C -0.18108 0.52128 -0.11285 0.51295 -0.04445 0.50486 E">
                                      <p:cBhvr>
                                        <p:cTn id="6" dur="2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0.08264 C 0.0724 0.26227 0.13976 0.4419 0.06129 0.55764 C -0.01719 0.67338 -0.33941 0.88356 -0.4658 0.77685 C -0.59219 0.6706 -0.64462 0.29467 -0.69705 -0.08125 E">
                                      <p:cBhvr>
                                        <p:cTn id="10" dur="2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61 -0.02477 C 0.40017 -0.03935 0.72673 -0.05417 0.80277 -0.14699 C 0.87882 -0.24005 0.44722 -0.39514 0.52986 -0.5831 C 0.6125 -0.77107 0.95555 -1.02292 1.29861 -1.27477 E">
                                      <p:cBhvr>
                                        <p:cTn id="14" dur="2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45 -0.08657 C -0.32291 -0.22801 -0.60538 -0.36967 -0.70711 -0.36435 C -0.80885 -0.35926 -0.66892 0.00371 -0.65086 -0.05602 C -0.63281 -0.11574 -0.61579 -0.41921 -0.59878 -0.72268 E">
                                      <p:cBhvr>
                                        <p:cTn id="18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99 -0.08195 C -0.20017 -0.27222 -0.37135 -0.4625 -0.31441 -0.49584 C -0.25746 -0.52917 0.38212 -0.25463 0.31268 -0.28195 C 0.24323 -0.30926 -0.55694 -0.5963 -0.73107 -0.65972 E">
                                      <p:cBhvr>
                                        <p:cTn id="22" dur="2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39 0.03888 C 0.33368 0.07592 0.56996 0.11296 0.67031 0.21666 C 0.77066 0.32037 0.5908 0.50231 0.69948 0.66111 C 0.80816 0.8199 1.06528 0.99467 1.32239 1.16944 E">
                                      <p:cBhvr>
                                        <p:cTn id="26" dur="2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2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189000"/>
            <a:ext cx="1258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43280" y="18900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189000"/>
            <a:ext cx="14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84720" y="189000"/>
            <a:ext cx="1258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67640" y="18900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1268280"/>
            <a:ext cx="1440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1268280"/>
            <a:ext cx="12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1268280"/>
            <a:ext cx="12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126828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181080" y="2492280"/>
            <a:ext cx="158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re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2565360"/>
            <a:ext cx="1511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2421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84720" y="2421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i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67640" y="242100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eci-o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645000"/>
            <a:ext cx="125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nu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3645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3645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3645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t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67640" y="3645000"/>
            <a:ext cx="147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ua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i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i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4869000"/>
            <a:ext cx="12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o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67640" y="501336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81080" y="5972040"/>
            <a:ext cx="158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inta  y u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600408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 y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43280" y="6004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t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84720" y="600408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uat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6004080"/>
            <a:ext cx="13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inc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5943600"/>
            <a:ext cx="14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se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2565360"/>
            <a:ext cx="143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tor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71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2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189000"/>
            <a:ext cx="1258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18900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189000"/>
            <a:ext cx="14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4720" y="189000"/>
            <a:ext cx="1258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67640" y="18900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3200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00360" y="1268280"/>
            <a:ext cx="1440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1268280"/>
            <a:ext cx="12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84720" y="1268280"/>
            <a:ext cx="12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67640" y="126828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181080" y="2492280"/>
            <a:ext cx="158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re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2565360"/>
            <a:ext cx="1511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2421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84720" y="2421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i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67640" y="242100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eci-o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645000"/>
            <a:ext cx="125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nu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3280" y="3645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00720" y="3645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84720" y="3645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t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67640" y="3645000"/>
            <a:ext cx="147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ua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i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4328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i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4869000"/>
            <a:ext cx="12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o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1336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181080" y="5972040"/>
            <a:ext cx="158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inta  y u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600408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 y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43280" y="6004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t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600408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uat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6004080"/>
            <a:ext cx="13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inc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67640" y="5943600"/>
            <a:ext cx="14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se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3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71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2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189000"/>
            <a:ext cx="1258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3280" y="18900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89000"/>
            <a:ext cx="14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189000"/>
            <a:ext cx="1258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67640" y="18900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00360" y="1268280"/>
            <a:ext cx="1440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1268280"/>
            <a:ext cx="12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84720" y="1268280"/>
            <a:ext cx="12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67640" y="126828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181080" y="2492280"/>
            <a:ext cx="158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re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360" y="2565360"/>
            <a:ext cx="1511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00720" y="2421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84720" y="2421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i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67640" y="242100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eci-o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645000"/>
            <a:ext cx="125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nu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200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43280" y="3645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3645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4720" y="3645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t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67640" y="3645000"/>
            <a:ext cx="147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ua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i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4328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i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4869000"/>
            <a:ext cx="12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o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8472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181080" y="5972040"/>
            <a:ext cx="158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inta  y u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600408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 y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43280" y="6004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t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84720" y="600408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uat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2000" y="6004080"/>
            <a:ext cx="13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inc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67640" y="5943600"/>
            <a:ext cx="14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se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32000" y="2565360"/>
            <a:ext cx="143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tor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71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2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189000"/>
            <a:ext cx="1258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18900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56000" y="189000"/>
            <a:ext cx="14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84720" y="189000"/>
            <a:ext cx="1258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67640" y="18900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3200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00360" y="1268280"/>
            <a:ext cx="1440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00720" y="1268280"/>
            <a:ext cx="12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1268280"/>
            <a:ext cx="12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67640" y="126828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-181080" y="2492280"/>
            <a:ext cx="158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re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00360" y="2565360"/>
            <a:ext cx="1511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00720" y="2421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84720" y="2421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i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67640" y="242100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eci-o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645000"/>
            <a:ext cx="125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nu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43280" y="3645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00720" y="3645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3645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t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67640" y="3645000"/>
            <a:ext cx="147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ua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i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328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i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00720" y="4869000"/>
            <a:ext cx="12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o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8472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67640" y="501336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-181080" y="5972040"/>
            <a:ext cx="158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inta  y u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32000" y="600408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 y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43280" y="6004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t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84720" y="600408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uat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2000" y="6004080"/>
            <a:ext cx="13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inc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5943600"/>
            <a:ext cx="14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se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32000" y="2565360"/>
            <a:ext cx="143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tor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3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71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2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32000" y="189000"/>
            <a:ext cx="1258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43280" y="18900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356000" y="189000"/>
            <a:ext cx="14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84720" y="189000"/>
            <a:ext cx="1258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67640" y="18900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33200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00360" y="1268280"/>
            <a:ext cx="1440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00720" y="1268280"/>
            <a:ext cx="12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84720" y="1268280"/>
            <a:ext cx="12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67640" y="126828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-181080" y="2492280"/>
            <a:ext cx="158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re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00360" y="2565360"/>
            <a:ext cx="1511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00720" y="2421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67640" y="242100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eci-o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645000"/>
            <a:ext cx="125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nu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3200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43280" y="3645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00720" y="3645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84720" y="3645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t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67640" y="3645000"/>
            <a:ext cx="147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ua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i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3200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4328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i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00720" y="4869000"/>
            <a:ext cx="12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o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8472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501336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-181080" y="5972040"/>
            <a:ext cx="158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inta  y u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32000" y="600408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 y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43280" y="6004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t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84720" y="600408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uat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12000" y="6004080"/>
            <a:ext cx="13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inc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67640" y="5943600"/>
            <a:ext cx="14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se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32000" y="2565360"/>
            <a:ext cx="143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tor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33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71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2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43280" y="18900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56000" y="189000"/>
            <a:ext cx="14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84720" y="189000"/>
            <a:ext cx="1258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667640" y="18900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33200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00360" y="1268280"/>
            <a:ext cx="1440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00720" y="1268280"/>
            <a:ext cx="12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84720" y="1268280"/>
            <a:ext cx="12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667640" y="126828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-181080" y="2492280"/>
            <a:ext cx="158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re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700360" y="2565360"/>
            <a:ext cx="1511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00720" y="2421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2421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i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242100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eci-o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645000"/>
            <a:ext cx="125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nu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33200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43280" y="3645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00720" y="3645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84720" y="3645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t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667640" y="3645000"/>
            <a:ext cx="147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ua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i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33200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4328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i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500720" y="4869000"/>
            <a:ext cx="12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o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8472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67640" y="501336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-181080" y="5972040"/>
            <a:ext cx="158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inta  y u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32000" y="600408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 y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843280" y="6004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t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600408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uat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12000" y="6004080"/>
            <a:ext cx="13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inc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67640" y="5943600"/>
            <a:ext cx="14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se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32000" y="2565360"/>
            <a:ext cx="143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tor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3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771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52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32000" y="189000"/>
            <a:ext cx="1258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43280" y="18900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356000" y="189000"/>
            <a:ext cx="14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667640" y="18900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3200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00360" y="1268280"/>
            <a:ext cx="1440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00720" y="1268280"/>
            <a:ext cx="12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84720" y="1268280"/>
            <a:ext cx="12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667640" y="126828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-181080" y="2492280"/>
            <a:ext cx="158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re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00360" y="2565360"/>
            <a:ext cx="1511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00720" y="2421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84720" y="2421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i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67640" y="242100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eci-o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645000"/>
            <a:ext cx="125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nu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33200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43280" y="3645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3645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084720" y="3645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t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667640" y="3645000"/>
            <a:ext cx="147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ua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i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3200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4328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i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00720" y="4869000"/>
            <a:ext cx="12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o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8472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501336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-181080" y="5972040"/>
            <a:ext cx="158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inta  y u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32000" y="600408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 y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843280" y="6004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t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84720" y="600408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uat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012000" y="6004080"/>
            <a:ext cx="13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inc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67640" y="5943600"/>
            <a:ext cx="14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se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32000" y="2565360"/>
            <a:ext cx="143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tor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33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771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52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332000" y="189000"/>
            <a:ext cx="1258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43280" y="18900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56000" y="189000"/>
            <a:ext cx="14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84720" y="189000"/>
            <a:ext cx="1258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667640" y="18900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200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700360" y="1268280"/>
            <a:ext cx="1440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00720" y="1268280"/>
            <a:ext cx="12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84720" y="1268280"/>
            <a:ext cx="12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67640" y="126828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-181080" y="2492280"/>
            <a:ext cx="158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re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700360" y="2565360"/>
            <a:ext cx="1511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00720" y="2421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84720" y="2421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i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667640" y="242100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eci-o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3645000"/>
            <a:ext cx="125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nu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43280" y="3645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00720" y="3645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84720" y="3645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t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667640" y="3645000"/>
            <a:ext cx="147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ua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i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3200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84328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i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00720" y="4869000"/>
            <a:ext cx="12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o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8472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67640" y="501336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181080" y="5972040"/>
            <a:ext cx="158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inta  y u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32000" y="600408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 y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43280" y="6004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t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284720" y="600408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uat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6004080"/>
            <a:ext cx="13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inc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67640" y="5943600"/>
            <a:ext cx="14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se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332000" y="2565360"/>
            <a:ext cx="143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tor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7:24:52Z</dcterms:created>
  <dc:creator>Owner1</dc:creator>
  <dc:description/>
  <dc:language>en-US</dc:language>
  <cp:lastModifiedBy>Owner1</cp:lastModifiedBy>
  <dcterms:modified xsi:type="dcterms:W3CDTF">2008-07-21T07:51:16Z</dcterms:modified>
  <cp:revision>3</cp:revision>
  <dc:subject/>
  <dc:title>Slide 1</dc:title>
</cp:coreProperties>
</file>